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9.xml.rels" ContentType="application/vnd.openxmlformats-package.relationships+xml"/>
  <Override PartName="/ppt/notesSlides/notesSlide10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1733-9E8C-4E8E-B6D6-E60F088A2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2826-CB59-428B-BEAA-C6BE40DFDE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4F8-C3F1-4CB3-9907-227C935E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0E4-8567-480D-A751-F1BF0382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A53-A642-402D-98A3-62D88C2A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B31-971C-44A8-83E5-7953B22C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B3E8-1D8A-49B5-9B82-DA1BD391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CCE8-D94C-40A3-B8BF-DB735B94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2249-D1F8-4A99-B2CE-691E0155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A1AC-7B43-4ACC-9B53-0A36B3E8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74EE-9F84-49C7-A773-D71A1812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796B-FDEB-4AE2-862B-4A211051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E3D4-6D32-44EB-B003-4AAF3EF4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B8A-8DA6-4E4F-A965-60ABF856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DD61-099C-4A99-AD55-B0CEEA88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164D-3707-450D-A775-029EE89B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0C92-A6F7-4610-92C4-D139BCAD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DBD2-A3FA-4795-8C15-588155E6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DE10-E7B4-4B69-AB2D-2DFF9E0C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899-A47D-4637-AD4E-F2C4ED05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E4F-E0CE-485E-8CDD-2392DD20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F18-F23E-4052-8E6D-41303B34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C3A-588F-4891-BF22-D5478376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9E9-E016-4D53-87A3-1E87CC35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B4C-86FD-498D-A2A7-7F5DA38F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B8E-0A1F-4642-957F-9406D796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E28D-6F4B-4C06-8368-101237163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Rectangle 8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5" name="Rectangle 8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4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5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8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9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1C91-2EBE-4CA1-8444-EFEE7FD86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hyperlink" Target="http://www.quia.com/jg/1125971.html" TargetMode="External"/><Relationship Id="rId2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Bad%20Dog,%20Badger!.htm" TargetMode="External"/><Relationship Id="rId2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Bad%20Dog,%20Badger!.htm" TargetMode="External"/><Relationship Id="rId2" Type="http://schemas.openxmlformats.org/officeDocument/2006/relationships/hyperlink" Target="http://www.scottsboro.org/~flewis/SF%20Reading%20Street/spellmaster/Bad%20Dog,%20Dodger/jigword2.html" TargetMode="External"/><Relationship Id="rId3" Type="http://schemas.openxmlformats.org/officeDocument/2006/relationships/hyperlink" Target="http://www.scottsboro.org/~flewis/SF%20Reading%20Street/spellmaster/Bad%20Dog,%20Dodger/matchword2.html" TargetMode="External"/><Relationship Id="rId4" Type="http://schemas.openxmlformats.org/officeDocument/2006/relationships/hyperlink" Target="http://www.scottsboro.org/~flewis/SF%20Reading%20Street/spellmaster/Bad%20Dog,%20Dodger/speedword2.html" TargetMode="External"/><Relationship Id="rId5" Type="http://schemas.openxmlformats.org/officeDocument/2006/relationships/hyperlink" Target="http://www.scottsboro.org/~flewis/SF%20Reading%20Street/spellmaster/Bad%20Dog,%20Dodger/wordsearch2.html" TargetMode="External"/><Relationship Id="rId6" Type="http://schemas.openxmlformats.org/officeDocument/2006/relationships/hyperlink" Target="http://www.scottsboro.org/~flewis/SF%20Reading%20Street/spellmaster/Bad%20Dog,%20Dodger/wordweb.html" TargetMode="External"/><Relationship Id="rId7" Type="http://schemas.openxmlformats.org/officeDocument/2006/relationships/hyperlink" Target="http://www.spellingcity.com/index.php?option=com_spellcity&amp;task=viewList&amp;listId=825632" TargetMode="External"/><Relationship Id="rId8" Type="http://schemas.openxmlformats.org/officeDocument/2006/relationships/hyperlink" Target="http://www.spellingcity.com/index.php?option=com_spellcity&amp;task=viewList&amp;listId=825639" TargetMode="External"/><Relationship Id="rId9" Type="http://schemas.openxmlformats.org/officeDocument/2006/relationships/hyperlink" Target="http://www.scottsboro.org/~flewis/SF%20Reading%20Street/spellmaster/Bad%20Dog,%20Dodger!%20Spelling%20Words/speedword2.html" TargetMode="External"/><Relationship Id="rId10" Type="http://schemas.openxmlformats.org/officeDocument/2006/relationships/hyperlink" Target="http://www.scottsboro.org/~flewis/SF%20Reading%20Street/spellmaster/Bad%20Dog,%20Dodger!%20Spelling%20Words/wordweb.html" TargetMode="External"/><Relationship Id="rId11" Type="http://schemas.openxmlformats.org/officeDocument/2006/relationships/hyperlink" Target="http://www.quia.com/hm/323162.html" TargetMode="External"/><Relationship Id="rId12" Type="http://schemas.openxmlformats.org/officeDocument/2006/relationships/hyperlink" Target="http://www.spellingcity.com/index.php?option=com_spellcity&amp;Itemid=122&amp;task=viewList&amp;listId=354279" TargetMode="External"/><Relationship Id="rId13" Type="http://schemas.openxmlformats.org/officeDocument/2006/relationships/hyperlink" Target="http://www.spellingcity.com/index.php?option=com_spellcity&amp;task=viewList&amp;listId=825641" TargetMode="External"/><Relationship Id="rId14" Type="http://schemas.openxmlformats.org/officeDocument/2006/relationships/hyperlink" Target="http://www.spellingcity.com/index.php?option=com_spellcity&amp;task=viewList&amp;listId=825641" TargetMode="External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80.xml"/><Relationship Id="rId2" Type="http://schemas.openxmlformats.org/officeDocument/2006/relationships/slide" Target="slide80.xml"/><Relationship Id="rId3" Type="http://schemas.openxmlformats.org/officeDocument/2006/relationships/slide" Target="slide80.xml"/><Relationship Id="rId4" Type="http://schemas.openxmlformats.org/officeDocument/2006/relationships/slide" Target="slide81.xml"/><Relationship Id="rId5" Type="http://schemas.openxmlformats.org/officeDocument/2006/relationships/slide" Target="slide82.xml"/><Relationship Id="rId6" Type="http://schemas.openxmlformats.org/officeDocument/2006/relationships/slide" Target="slide83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52.xml"/><Relationship Id="rId3" Type="http://schemas.openxmlformats.org/officeDocument/2006/relationships/slide" Target="slide90.xml"/><Relationship Id="rId4" Type="http://schemas.openxmlformats.org/officeDocument/2006/relationships/slide" Target="slide131.xml"/><Relationship Id="rId5" Type="http://schemas.openxmlformats.org/officeDocument/2006/relationships/slide" Target="slide145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hyperlink" Target="http://images.google.com/imgres?imgurl=http://themoderatevoice.com/wordpress-engine/files/2009-january/fairfax_pool_bleachers.jpg&amp;imgrefurl=http://themoderatevoice.com/category/politics/negative-campaigning/demonization/&amp;usg=__BGt_1-1_b4jXYBsOC1dicjw8Vt8=&amp;h=549&amp;w=750&amp;sz=106&amp;hl=en&amp;start=2&amp;tbnid=JtFnYfMxSRz6nM:&amp;tbnh=103&amp;tbnw=141&amp;prev=/images?q=bleachers&amp;hl=en&amp;rlz=1T4GGLR_enUS263US266&amp;sa=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mages.google.com/imgres?imgurl=http://www.eteamz.com/titan/images/Titans-Bleachers-HomeSide5-17-07.JPG&amp;imgrefurl=http://www.eteamz.com/titan/index.cfm?showdonate=1&amp;usg=__dIMBPEGOKqg1OCydjdWJieWIQRY=&amp;h=1920&amp;w=2576&amp;sz=1265&amp;hl=en&amp;start=4&amp;tbnid=Ic1l-qR0-XsYOM:&amp;tbnh=112&amp;tbnw=150&amp;prev=/images?q=bleachers&amp;hl=en&amp;rlz=1T4GGLR_enUS263US266&amp;sa=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hyperlink" Target="http://images.google.com/imgres?imgurl=http://www.visitvictoria.com/content/2004/aug/spectators%2520at%2520a%2520sporting%2520event_30692_u_280.jpg&amp;imgrefurl=http://www.visitvictoria.com/displayobject.cfm/objectid.1512C788-E1E6-4449-89AFC9E33E3F84FE/&amp;usg=__fhvA-O5LGX6xW4UmxM6oszE-X0U=&amp;h=228&amp;w=280&amp;sz=35&amp;hl=en&amp;start=4&amp;tbnid=SmNOW1sLsE7ufM:&amp;tbnh=93&amp;tbnw=114&amp;prev=/images?q=spectators&amp;hl=en&amp;rlz=1T4GGLR_enUS263US266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www.3cushion.com/Other%2520Tournaments/Pics/spectators.jpg&amp;imgrefurl=http://www.3cushion.com/Other%2520Tournaments/copaelitte2004.htm&amp;usg=__9OxqmaHPiU1OQLPjGJ0KgYpfaJ4=&amp;h=300&amp;w=400&amp;sz=60&amp;hl=en&amp;start=18&amp;tbnid=9FzxX42ISYPACM:&amp;tbnh=93&amp;tbnw=124&amp;prev=/images?q=spectators&amp;hl=en&amp;rlz=1T4GGLR_enUS263US266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hyperlink" Target="http://images.google.com/imgres?imgurl=http://www.jethawks.com/images/tickets/dugout-teams1.jpg&amp;imgrefurl=http://www.jethawks.com/tickets/dugout-teams/&amp;usg=__npidnbrZL_z6UkwMJDe3x5FZuKk=&amp;h=287&amp;w=408&amp;sz=19&amp;hl=en&amp;start=5&amp;tbnid=gBEACic2Q5rltM:&amp;tbnh=88&amp;tbnw=125&amp;prev=/images?q=dugout&amp;hl=en&amp;rlz=1T4GGLR_enUS263US266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www.jdland.com/dc/images/other/stadium-interior-dugout-200802-1.jpg&amp;imgrefurl=http://www.jdland.com/dc/stadium.cfm?tab=no3&amp;usg=__ecOvhOkfKhzMpPSsnNDmDgiDLzs=&amp;h=322&amp;w=600&amp;sz=106&amp;hl=en&amp;start=12&amp;tbnid=Jo4K68556jYJKM:&amp;tbnh=72&amp;tbnw=135&amp;prev=/images?q=dugout&amp;hl=en&amp;rlz=1T4GGLR_enUS263US266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09200"/>
            <a:ext cx="9144000" cy="40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How can we be responsible family memb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8" descr="Bad Dog, Dodg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24080" y="2514600"/>
            <a:ext cx="31114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243828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e know what the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wor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responsible means. It means to do what you're supposed to do. How can we be responsible family member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17136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</a:t>
            </a:r>
            <a:br>
              <a:rPr sz="44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hich situation is a good example of the vocabulary wor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—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baseball team gets together to work on playing better, or a baseball team meets with another baseball team to play a ga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something being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—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girl handed an apple to her sister or a girl took her sister’s apple away from h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lot and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or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17136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</a:t>
            </a:r>
            <a:br>
              <a:rPr sz="44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hich situation is a good example of the vocabulary wor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ew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—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baby is crushing a blanket with her teeth or a baby is holding a blanket while she sleep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something being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—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boy ran after his hat as it blew away in the wind or a boy threw his hat into the ai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17136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</a:t>
            </a:r>
            <a:br>
              <a:rPr sz="44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hich situation is a good example of the vocabulary wor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getting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getting sent to your room or getting a box of cand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something being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agg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a dog moved his tail back and forth or a dog ran after his tail to try to catch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someon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drip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a girl who just climbed out of a pool or a girl who hasn’t gone swimming y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l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opposite of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l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opposite of righ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can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l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opposite of righ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can do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o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li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a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s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use for their h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l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opposite of righ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can do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o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li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a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s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use for their hair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87400" y="358560"/>
            <a:ext cx="732456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uck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uck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hen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f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uck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hen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fa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n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c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uck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hen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fa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n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c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o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assify/Categoriz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member the title of this story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ad Dog, Dod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you want to understand why Dodger is considered a bad dog, you can classify, or group, the things that Dodger does that make people think he is a bad do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 example, he knocks over the trash, jumps into the bathtub, and chews Sam’s baseball ca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assify/Categoriz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ad Dog, Dodger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t is also about baseb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k of all the words in the story that can be classified, or grouped, under the word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aseb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921996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sine said? “Training for dogs.”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99"/>
                </a:solidFill>
                <a:latin typeface="Arial"/>
                <a:ea typeface="Arial"/>
              </a:rPr>
              <a:t>The sign said, “Training for dogs.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what should i teach my do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ff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99"/>
                </a:solidFill>
                <a:latin typeface="Arial"/>
                <a:ea typeface="Arial"/>
              </a:rPr>
              <a:t>What should I teach my do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 word that takes the place of a noun or nou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n the subject of the sent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fter an action ver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it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with a capital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lot and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’s Talk About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morrow we will read about how to train a pupp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behavi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 – hav- 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way people and animals act or behave is called thei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havi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children had good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during the assemb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dog’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mproved after we trained 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enjoy watching the birds’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t the feed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dnes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pet behaving badly or doing something impressiv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ur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37160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training a dog. Trained dogs are always on their best behavior. They are obedient, and they cooperate. How do you think dogs are trained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ur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37160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training a dog. Trained dogs are always on their best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behavio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They are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obedien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and they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cooperat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How do you think dogs are trained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oday we will learn abou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tell a Movie or 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048120" y="2209680"/>
          <a:ext cx="3262320" cy="409104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1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p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ed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pan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rim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fi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er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weekly helper came to our class for the whole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had enough meat to make the biggest, fattest sandwich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ook above the shelf at the lovely gift for my teac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he hardest word to read since it is longer than m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story began, “Long ago, there was a graceful dancer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doctor seems busiest toward the end of the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cooper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 – op – er - a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people or animals work together to accomplish a goal, they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ope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ith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children will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ope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o paint a mural on the w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dog will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ope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ith its owner to learn new tric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worker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oper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o build the hou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876312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y cat chewwed my so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My cat chewed my sock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i wish me knew why?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I wish I knew why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6633"/>
                </a:solidFill>
                <a:latin typeface="Times New Roman"/>
              </a:rPr>
              <a:t>	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 word that takes the place of a noun or nou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n the subject of the sent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fter an action ver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it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with a capital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peaking and Listening: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tell a Movie or a 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ak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ce the grou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ak cle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ak loudly enough to be he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sten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t quie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ce the speak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sten to what the speaker sa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ing Connections: Text to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read a story about how to train a puppy.  Tomorrow we will hear about more ways to teach a puppy to beh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ur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4479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puppy who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arns to obe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rid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914400" y="2286000"/>
          <a:ext cx="6629400" cy="4187880"/>
        </p:xfrm>
        <a:graphic>
          <a:graphicData uri="http://schemas.openxmlformats.org/drawingml/2006/table">
            <a:tbl>
              <a:tblPr/>
              <a:tblGrid>
                <a:gridCol w="662940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is week we read about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ing responsible by teaching dogs how to follow the rules. We must follow rules, too.  In what other ways can we be responsible family member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520" y="171360"/>
            <a:ext cx="84582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igh Frequenc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cyclope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3048120" y="2209680"/>
          <a:ext cx="3262320" cy="409104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1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p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ed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pan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rim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fi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er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d you see the wren perch on that limb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will wrap my hurt knee with t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drew the wrong design on my 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y new shirt had a wrinkle in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obedi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o - be – di – 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a person or an animal is willing to do what they are told to do, he or she i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obedi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obedi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hildren did what their parents asked them to 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dog wa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obedi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hen he stopped jumping on peop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happy when you get one of the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happy when you get one of these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he way a happy dog moved its ta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happy when you get one of these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he way a happy dog moved its tail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agg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what water is doing when it comes out in dro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happy when you get one of these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he way a happy dog moved its tail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agg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what water is doing when it comes out in drops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drip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“took quickl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“took quickly.”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“took quickly.”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doing this before you swallow fo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“took quickly.”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doing this before you swallow food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ew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can read this word.  What sound do you hear at the begin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do you know about the beginning sound of this w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s sil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day we’ll learn other words that have silent let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839080" cy="708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y dog listen to M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My dog listens to m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n I and Dad comb his ha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Then Dad and I comb his hai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66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ncycloped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cyclopedias help people find information about many top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cyclopedias contain articles, which are arranged in alphabetical order by top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ke dictionaries, encyclopedias have guide words and ent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ncycloped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ed encyclopedias often contain many different books, called volu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volumes are numbered and have letters on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hoose the volume that your topic would be found 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the guide words to find your top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Week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’s Talk Ab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spon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rid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pet that is sill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lated Link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9900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Vocabulary Practice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Arial"/>
                <a:ea typeface="Arial"/>
              </a:rPr>
              <a:t>Vocabulary &amp; Amazing Words</a:t>
            </a: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City: Vocabul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City: Amazing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Arial"/>
                <a:ea typeface="Arial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Arial"/>
                <a:ea typeface="Arial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C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Apt Plus Videos  </a:t>
            </a:r>
            <a:br>
              <a:rPr sz="4400"/>
            </a:br>
            <a:r>
              <a:rPr b="1" lang="en-US" sz="3200" spc="-1" strike="noStrike">
                <a:solidFill>
                  <a:srgbClr val="ff6699"/>
                </a:solidFill>
                <a:latin typeface="Verdana"/>
              </a:rPr>
              <a:t>(password required)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ff Happens with Bill Nye: Pets (20:13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l People, Real Math: Choosing a Pet (K-2) (13:59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 About Animals: Mammals (Revised) (10:05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880" y="4255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Apt Plus Videos  </a:t>
            </a:r>
            <a:br>
              <a:rPr sz="4400"/>
            </a:br>
            <a:r>
              <a:rPr b="1" lang="en-US" sz="2400" spc="-1" strike="noStrike">
                <a:solidFill>
                  <a:srgbClr val="ff6699"/>
                </a:solidFill>
                <a:latin typeface="Verdana"/>
              </a:rPr>
              <a:t>(password required)</a:t>
            </a: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gus and the Ducks (14:0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fficer Buckle and Gloria (12:19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I Grow Up I Want To Be a Veterinarian (15:00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arry the Dirty Dog (09:08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61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80920" y="17524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s is a nu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letter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n nurse stands for the sound /n/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letter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an also stand for /n/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 o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n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7" descr="Sound-Spelling Card"/>
          <p:cNvPicPr/>
          <p:nvPr/>
        </p:nvPicPr>
        <p:blipFill>
          <a:blip r:embed="rId1"/>
          <a:stretch/>
        </p:blipFill>
        <p:spPr>
          <a:xfrm>
            <a:off x="685800" y="1981080"/>
            <a:ext cx="2619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7335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s is a mountain.  It begins with the /m/ s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a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a word ends with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the b is sil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u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6" descr="Sound-Spelling Card"/>
          <p:cNvPicPr/>
          <p:nvPr/>
        </p:nvPicPr>
        <p:blipFill>
          <a:blip r:embed="rId1"/>
          <a:stretch/>
        </p:blipFill>
        <p:spPr>
          <a:xfrm>
            <a:off x="685800" y="198108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s is a rocket. It begins with an /r/ s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r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a word begins with 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the w is sil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6" descr="Sound-Spelling Card"/>
          <p:cNvPicPr/>
          <p:nvPr/>
        </p:nvPicPr>
        <p:blipFill>
          <a:blip r:embed="rId1"/>
          <a:stretch/>
        </p:blipFill>
        <p:spPr>
          <a:xfrm>
            <a:off x="762120" y="1981080"/>
            <a:ext cx="25239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66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5920" y="2589120"/>
            <a:ext cx="6394680" cy="25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33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cc9900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n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com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nif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gn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ri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ig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2372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at do you know about reading these wor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letter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k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w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g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,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b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can stand for the consonant sound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n, r, n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971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rink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gn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n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lumb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esig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rea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7"/>
              </a:rPr>
              <a:t>Spelling City: Vocabul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8"/>
              </a:rPr>
              <a:t>Spelling City: Amazing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3"/>
              </a:rPr>
              <a:t>Spelling City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4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3047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334120" y="1981080"/>
            <a:ext cx="3124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uc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n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n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lot and Them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member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ne Dark Nigh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happened in the sto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ell what you learned about Jonatha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might have happened if Jonathan had not helped the ca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lot and The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happens in a story’s beginning, middle, and ending is called the pl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way characters feel can affect how they act, and their actions make up the pl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theme of a story is the story’s “big idea,” or what we learn from the sto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can use what we already know to draw conclusions about the the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48120" y="2209680"/>
          <a:ext cx="3262320" cy="409104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1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p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ed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pan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rim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fi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er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9144000" cy="71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rong date is on the sig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99"/>
                </a:solidFill>
                <a:latin typeface="Arial"/>
                <a:ea typeface="Arial"/>
              </a:rPr>
              <a:t>The wrong date is on the sig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lam scared the wren away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99"/>
                </a:solidFill>
                <a:latin typeface="Arial"/>
                <a:ea typeface="Arial"/>
              </a:rPr>
              <a:t>The lamb scared the wren away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 word that takes the place of a noun or nou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n the subject of the sent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fter an action ver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lways write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with a capital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lways wanted a do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y parents gave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 do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en you talk about yourself and another person, name yourself la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dog and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sing togeth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ople are surprised when they hear the dog and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____ 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___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sings with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sings with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nging makes Pepper and ___ happ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sings with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nging makes 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happ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ybe Pepper and __ can sing for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sings with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nging makes 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happ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ybe 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can sing for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895480" y="1828800"/>
          <a:ext cx="3353040" cy="490680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9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act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bb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ew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a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gg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ipp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each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ectato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ug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, wr, gn,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’s Talk About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morrow the class will read about a pet that needs to learn how to follow ru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295280" y="243828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st ways people can cooperate with each other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447920" y="25146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Sam and his dog, Dodger.  Sam must teach Dodger what’s right and what’s wrong.  How do we know right from wro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447920" y="25146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Sam and his dog, Dodger.  Sam must teach Dodger what’s right and what’s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wro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 How do we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know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right from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wro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igh Frequenc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ings –ed and –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ord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8840" y="358560"/>
            <a:ext cx="732168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compan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 – pan –  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pan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s a person or animal who spends time with you, as a fri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y grandfather lives alone but has a little dog for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pan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toddler ha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pan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ho like to play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kitten is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pan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or the older do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consid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 – sid - 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si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something, you think about it very carefully before making a deci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m will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si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llowing me to get a pet c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had to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si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hether I wanted to take piano lessons or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reprim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rep – ri - m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you get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reprim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that means you get a talking to, a warning, or a scolding for doing something wr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 got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reprim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or being late for school so many ti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m gave me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reprim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or walking across the carpet with muddy sho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ighth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can read this word because you know how to read words with silent consonants that stand for the /n/ s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sound do the letters kn stand for in this w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’s the w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you come to a new word, look at the letters from left to right and think about the consonant sou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y the sounds in the word to yourself and then read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n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e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am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igg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neepa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s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nick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nar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istb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gnpo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nock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171360"/>
            <a:ext cx="868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br>
              <a:rPr sz="40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ick out the words with silent consonants in “I’m Just a New Puppy.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52320" y="1752120"/>
            <a:ext cx="3124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r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res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ickkn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eec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n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76720" y="2057400"/>
          <a:ext cx="2895480" cy="452448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o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oug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war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ol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stwat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stwat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you climb the tree, you can see a wren in a n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wrong to go inside a house before you knoc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will sign my name on the card and then wrap the gi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’s write about a lamb and a gnat with a co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to repeat an action in order to impr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took hold of something sudde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ew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grinding something between your tee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ran after some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a special gift, often 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agg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moved from side to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drip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a liquid falling slowly, drop by dr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 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" action="ppaction://hlinksldjump"/>
              </a:rPr>
              <a:t>bleachers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3" action="ppaction://hlinksldjump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– raised seats on which people sit to watch sports g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4" action="ppaction://hlinksldjump"/>
              </a:rPr>
              <a:t>specta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people who watch an e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5" action="ppaction://hlinksldjump"/>
              </a:rPr>
              <a:t>dugo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a shelter where baseball players sit when they’re waiting to 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6" action="ppaction://hlinksldjump"/>
              </a:rPr>
              <a:t>(next sl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ow can we be responsible family memb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bleach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Picture 7" descr="fairfax_pool_bleache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514600"/>
            <a:ext cx="3886200" cy="2838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Titans-Bleachers-HomeSide5-17-0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2514600"/>
            <a:ext cx="37148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specta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7" descr="spectators%2520at%2520a%2520sporting%2520event_30692_u_28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2209680"/>
            <a:ext cx="3581280" cy="2922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spectator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20968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dugou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6" descr="dugout-teams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2362320"/>
            <a:ext cx="3733920" cy="2628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stadium-interior-dugout-200802-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590920"/>
            <a:ext cx="402912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3047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act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verybod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rabb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a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hew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ha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28840" y="19810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i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r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cho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agg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ripp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ar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ord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imes we can get the meaning from word pa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may understand the base word and the prefix or the base word and suff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can look in a dictionary or gloss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can look for endings in the unknown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day we will learn more about the endings –</a:t>
            </a:r>
            <a:r>
              <a:rPr b="0" i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nd –</a:t>
            </a:r>
            <a:r>
              <a:rPr b="0" i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228240" y="76212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she will com the lambs woo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She will comb the lamb’s wool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 nat bit the ren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The gnat bit the wren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 word that takes the place of a noun or nou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n the subject of the sent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fter an action ver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lways a capital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me and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morrow you will hear about a girl who learns to be responsi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447920" y="2514600"/>
          <a:ext cx="6095880" cy="3236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time when you saw a dog doing something funn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23880" y="243828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e know what the word responsible means. It means to do what you're supposed to do. How can we be responsible family member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edne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19320" y="2133720"/>
          <a:ext cx="6781680" cy="418788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a dog named Zooks.  Eileen wanted a puppy more than anything. But her mom expected her to do some petsitting first.  What kind of animal do you love bes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edne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219320" y="2133720"/>
          <a:ext cx="6781680" cy="418788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a dog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nam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Zooks.  Eileen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want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a puppy more than anything. But her mom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expect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her to do some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petsitti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first.  What kind of animal do you love bes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efixe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-, re-, pre-, dis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assify/Categor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8840" y="358560"/>
            <a:ext cx="732168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confid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 –fi –den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animals or people are sure about things or are certain they have the ability to do something, then they will b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fid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n themsel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ate felt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fid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he would do well on the math t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patted the dog’s head so he would feel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fid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he was behaving proper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proper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 – er – ly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something is done in a correct way, it is don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e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learned to form all my cursive letter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e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m said we needed to behav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e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hen we visited her fri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e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rained dog will not tug on its lea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10:23:04Z</dcterms:modified>
  <cp:revision>29</cp:revision>
  <dc:subject/>
  <dc:title>Slide 1</dc:title>
</cp:coreProperties>
</file>